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98970"/>
        <c:axId val="43879283"/>
      </c:barChart>
      <c:catAx>
        <c:axId val="59798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9283"/>
        <c:crosses val="autoZero"/>
        <c:auto val="1"/>
        <c:lblAlgn val="ctr"/>
        <c:lblOffset val="100"/>
        <c:noMultiLvlLbl val="0"/>
      </c:catAx>
      <c:valAx>
        <c:axId val="43879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98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43C-5DF9-4965-899E-67BA0ECF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0A9-F669-4E5B-9747-B496BFB2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C9C-1000-4A5C-817E-E7EE642E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A90-3D5C-49A0-9E2A-FADEFD81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46E-5920-47E9-BA1B-C8066474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6FD-C24D-4385-8144-2BC96B44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A0B-5645-4FD0-ADBA-E9ED711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E66-893A-4F9C-A9AF-6432F199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7B0-DE69-47B3-837F-5BB39B6E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4C2-509E-41C7-B38C-FDE24B2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BFE-15A8-4B74-9DEF-ABB0AE3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F9F-0D77-456C-80A8-CAED5434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677B2-74F2-4AF7-B8A0-5EC864F8A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