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80801"/>
        <c:axId val="93181394"/>
      </c:barChart>
      <c:catAx>
        <c:axId val="17980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1394"/>
        <c:crosses val="autoZero"/>
        <c:auto val="1"/>
        <c:lblAlgn val="ctr"/>
        <c:lblOffset val="100"/>
        <c:noMultiLvlLbl val="0"/>
      </c:catAx>
      <c:valAx>
        <c:axId val="93181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80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DDB-F736-4535-8962-68C09FBA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39E-D0AA-4612-8517-8CE2E868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BC6-4FEA-4D33-BDC8-E1EB2D42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47-5E92-4B9C-9AC2-B1643EA2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CE2-2B9B-4827-9156-4E773B1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CA5-ED83-461B-9E38-A537AD8F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AC8-0224-4147-A9D0-E39A74C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33D-BB06-49CE-9BEA-B3D51E05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615-B025-49E9-902E-17FCD27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7BD-C0B0-4122-A308-1466C120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E10-4327-4940-88FC-A51A54E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699-189E-4C5C-985F-76A6D41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A0A40-BCAE-4CB4-8E48-9B7448819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