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80295"/>
        <c:axId val="687630"/>
      </c:barChart>
      <c:catAx>
        <c:axId val="90880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630"/>
        <c:crosses val="autoZero"/>
        <c:auto val="1"/>
        <c:lblAlgn val="ctr"/>
        <c:lblOffset val="100"/>
        <c:noMultiLvlLbl val="0"/>
      </c:catAx>
      <c:valAx>
        <c:axId val="687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80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041-37A2-4E02-9D68-0D208E81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E2C-17DD-449C-A996-4BA7D26F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403-7924-431B-94CA-81D0E835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967-896E-4E35-8855-D993340A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CCC-5789-42F3-85CE-E1E892B4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C3B-3DBB-4F08-8C11-91FBF1A5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B3B-1B89-46CB-A410-5AFBECD4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E25-3077-4291-9257-D2112127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C4C-236A-4EC1-A2EA-618340AB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C61-03DA-4210-9BC5-E946AD0E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2E9-F8EF-4790-9B1A-A493D1D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DE6-4538-4B4C-BF0A-740EFE85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15001-B535-43B1-A104-8208EED797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