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35832"/>
        <c:axId val="65900299"/>
      </c:barChart>
      <c:catAx>
        <c:axId val="76935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00299"/>
        <c:crosses val="autoZero"/>
        <c:auto val="1"/>
        <c:lblAlgn val="ctr"/>
        <c:lblOffset val="100"/>
        <c:noMultiLvlLbl val="0"/>
      </c:catAx>
      <c:valAx>
        <c:axId val="65900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35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924-8B72-42E3-BA46-8D100921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004-9FAA-4F05-8041-22667C1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29E-0C7E-4616-851F-40F21A88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5C3-EF55-4760-B056-FD0FB47E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795-9729-4176-B2D2-9B5CBB2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4BB-D89D-439A-A1F5-5EA11CF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9CD-583B-408E-932A-5F2C1507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5B7-3592-40CB-A492-0E4D526C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3FC-AA85-4451-87B9-25D77AF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053-4A80-4EE8-B457-60F649D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456-9CB9-46B4-9240-2D5F0E8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656-C09A-4BC3-A23B-FD9CD486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EBF46-B01E-4295-B746-1B29A31AC9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