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84888"/>
        <c:axId val="22134434"/>
      </c:barChart>
      <c:catAx>
        <c:axId val="12584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34434"/>
        <c:crosses val="autoZero"/>
        <c:auto val="1"/>
        <c:lblAlgn val="ctr"/>
        <c:lblOffset val="100"/>
        <c:noMultiLvlLbl val="0"/>
      </c:catAx>
      <c:valAx>
        <c:axId val="22134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84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509-2C31-4E9D-ABB7-EB6B57A1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F92-A6FA-4205-84F7-0FD083A0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8FA-E83A-41DC-8D09-5E775110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FF0-7683-4233-96BF-DBD0339D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16E-1C29-4C1D-95E2-6D2BB358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F57-C091-4420-8CB0-7B70A825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C04-B05B-488D-90DF-9FC6A362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265-0F4C-4550-961F-632A7DC8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340-D69E-40E7-8350-7F48EA7C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CF6-2CB3-477D-AA17-0573F86B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C23-2E86-4C4E-BB57-671E67E3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4CE-8937-4771-A8B5-9BBB5A29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A38DC-33A2-4FB3-996B-7119A1ACF6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