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49189"/>
        <c:axId val="92071297"/>
      </c:barChart>
      <c:catAx>
        <c:axId val="20949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1297"/>
        <c:crosses val="autoZero"/>
        <c:auto val="1"/>
        <c:lblAlgn val="ctr"/>
        <c:lblOffset val="100"/>
        <c:noMultiLvlLbl val="0"/>
      </c:catAx>
      <c:valAx>
        <c:axId val="92071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49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51B-221B-4CAF-9CB0-6EBD4981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119-241D-4522-A07C-5E4B3B0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8E4-C779-49A2-A017-B7E84E58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6CA-7DDD-4A18-A256-5EF56626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573-3A85-4121-8DCF-E48F9828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5E5-D29C-4A0F-9DA6-CA711475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DD5-1466-4264-8D6E-F8E63D0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9FE-42CC-449A-BF2F-8326E36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357-8B58-48D1-856F-BB9FFCB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359-A137-4F02-BBA1-3F4CE3A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085-F696-488E-9503-9CB9653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72F-9E44-45F0-920E-F03D691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4F3A5-857D-4763-BEED-1F4AC16E0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