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2400"/>
        <c:axId val="74261797"/>
      </c:barChart>
      <c:catAx>
        <c:axId val="5882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1797"/>
        <c:crosses val="autoZero"/>
        <c:auto val="1"/>
        <c:lblAlgn val="ctr"/>
        <c:lblOffset val="100"/>
        <c:noMultiLvlLbl val="0"/>
      </c:catAx>
      <c:valAx>
        <c:axId val="74261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100-C791-4CAC-A983-0CFA09C2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159-0A81-42B2-AC33-E5CA260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FC6-466D-43FD-89E0-C220A8B9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DB3-5E5B-4142-A356-A7AC8CD9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177-BC44-4DE8-9F4C-B4E40DE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281-FF05-4BA1-9B39-92995B4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2C1-DC56-470C-AEE8-5A08135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58E-B48B-43D6-8E7B-A89AC4A3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497-5C86-40E4-A5D2-893D2CB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6E1-50E4-4EBF-BC08-954C4CC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6CE-1006-4BD7-BE87-79C4AE4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251-624E-4E07-8A3E-6E345EE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6224C-1CB9-46A8-91AF-0D9496315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