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06335"/>
        <c:axId val="39279419"/>
      </c:barChart>
      <c:catAx>
        <c:axId val="874063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79419"/>
        <c:crosses val="autoZero"/>
        <c:auto val="1"/>
        <c:lblAlgn val="ctr"/>
        <c:lblOffset val="100"/>
        <c:noMultiLvlLbl val="0"/>
      </c:catAx>
      <c:valAx>
        <c:axId val="39279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063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EF10-886D-44F7-9477-88718409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7C37-4C9A-48A6-A617-038903B0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9EF4-FD8B-40A8-9B1F-C2CE0462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4866-2964-495A-A1D0-BBBA6CD7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7055-2B01-4DA8-9F9B-4C7400C0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225A-7CC0-4361-99E2-35FC86B1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6315-BBA6-4041-8CF7-FB296FC2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AF19-3FBA-48A0-9ADE-4574D656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EB3D-0CDC-454F-B4E9-86749E6C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47D-1493-4D5D-9361-AECBEF34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3BC-3D65-4D37-A6DB-6D05D2EB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A37C-8B64-4F15-8D74-4B9626EB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D2AC7-96F4-4E6F-836C-577816258E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