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4471"/>
        <c:axId val="23510835"/>
      </c:barChart>
      <c:catAx>
        <c:axId val="1224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10835"/>
        <c:crosses val="autoZero"/>
        <c:auto val="1"/>
        <c:lblAlgn val="ctr"/>
        <c:lblOffset val="100"/>
        <c:noMultiLvlLbl val="0"/>
      </c:catAx>
      <c:valAx>
        <c:axId val="23510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4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43E-082F-4C57-A532-BB688C3E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396-2A0D-49FF-9EE9-E87D8026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52D-8E95-407B-BC68-FA8FEEE5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5D4-79D1-4E8F-8559-F0AC9568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D48-957A-467F-AF72-75A1E607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B53-76B0-4EF5-A494-587EF868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193-042C-4FCC-86FD-7065E0B2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F34-7060-4648-BCAD-963A9900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C43-DC1F-4C19-BD6E-26C8EE77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494-1C73-4862-8147-B0AD238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4F4-2FB5-4675-BB30-53403AE1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9E95-722E-4C66-9EA8-C968A97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C35F0-4CC3-423A-B57D-1B1B9AE57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