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805954"/>
        <c:axId val="99023837"/>
      </c:barChart>
      <c:catAx>
        <c:axId val="878059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23837"/>
        <c:crosses val="autoZero"/>
        <c:auto val="1"/>
        <c:lblAlgn val="ctr"/>
        <c:lblOffset val="100"/>
        <c:noMultiLvlLbl val="0"/>
      </c:catAx>
      <c:valAx>
        <c:axId val="990238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059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5DD9-9D32-44F6-95B3-D73F7E27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368A-AE11-4591-AA33-1513D52B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8B9E-CA04-4BB6-915D-51E559A6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57DA-14A2-462F-821E-6B45EBD9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459E-4841-4C19-878F-5003AF3A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185-49ED-46FC-B769-ABF55958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69E8-3DA4-4394-A95A-D3437596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DDC9-AC67-41F1-93CE-0F59F5C0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D7D3-621C-4894-8D3E-1289C765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D60-0044-49C8-801B-BC05E23C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934F-283B-41EA-AE2E-9965825A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232A-45DC-4039-AFA7-9B5BF68F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9AC24-A1AC-4C70-91C4-81E56ACCA4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