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93480"/>
        <c:axId val="20371860"/>
      </c:barChart>
      <c:catAx>
        <c:axId val="181934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71860"/>
        <c:crosses val="autoZero"/>
        <c:auto val="1"/>
        <c:lblAlgn val="ctr"/>
        <c:lblOffset val="100"/>
        <c:noMultiLvlLbl val="0"/>
      </c:catAx>
      <c:valAx>
        <c:axId val="203718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934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108-01D4-44B3-9132-5EA56A65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2A7-D7C1-4BB3-9B7C-3202448A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FFD6-C832-4112-9764-70DA17FB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998-F62F-4DD1-96B9-CCA33233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5541-7DC7-4BCD-9061-5EDB36AB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0CA-0ABD-47BB-84F6-F8366439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B69B-8F04-42AC-BAA2-EE801E20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E0E5-B7C4-4878-8FB9-1D743B66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2ED-A308-418B-B8DC-AD79FC33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39B-2F29-4F38-A803-246287E4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CEB-3D93-4F33-884F-3A904E9F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81DF-265A-47A4-AD21-5A11AA1F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F6DDB-5628-4230-8B7B-330C67E848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