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870"/>
        <c:axId val="43369353"/>
      </c:barChart>
      <c:catAx>
        <c:axId val="927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69353"/>
        <c:crosses val="autoZero"/>
        <c:auto val="1"/>
        <c:lblAlgn val="ctr"/>
        <c:lblOffset val="100"/>
        <c:noMultiLvlLbl val="0"/>
      </c:catAx>
      <c:valAx>
        <c:axId val="43369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A24-5D9E-4200-A6CB-B4E87B6B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217-4EB6-4C3E-B12E-C9BF307E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E4F-563E-416C-9C2D-2BA296C0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369-FB6E-4E0F-88EC-216B75B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1B5-F07B-44DC-8EF4-1DDF69D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3E9-489C-47E2-A196-34362246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D5B-A3E5-4669-BFD2-344E7845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90A-83D1-4107-B0CB-606616E1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51C-0F7E-41D2-B613-E38081AB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086-50F9-4EC2-BDFA-56513F75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B93-4C4E-460B-B2ED-C9CED15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595-5344-4B7F-AC22-7A51CAD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AA8B5-B2AD-4118-8DB2-B84AC4F085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