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07511"/>
        <c:axId val="36932790"/>
      </c:barChart>
      <c:catAx>
        <c:axId val="825075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32790"/>
        <c:crosses val="autoZero"/>
        <c:auto val="1"/>
        <c:lblAlgn val="ctr"/>
        <c:lblOffset val="100"/>
        <c:noMultiLvlLbl val="0"/>
      </c:catAx>
      <c:valAx>
        <c:axId val="369327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075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69E3-5AF9-48C1-9FB3-5AB86E32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61F-1166-4715-ABB0-0D3DA7DC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7F6F-1805-42B5-83EA-3E2DD2DB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AB93-4F21-46C5-8795-5E72A395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DE35-7F2C-4A9A-82EF-3995E409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79D7-81E3-4CFC-9182-EC5C5C2B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43CB-77D1-4116-9FC1-CDE6E252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AD84-A82A-4157-9078-DBBE74DE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F458-24CD-4409-81AB-EEE51847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6E47-5B3F-4EFA-9E61-0EFBC2F8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0B7-A7EA-4FA2-8C32-23CBFAE9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3B1-C53A-4154-976A-B5004BBD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28487-13C2-4EF4-9A11-C40EE6D4B6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