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407002"/>
        <c:axId val="30807480"/>
      </c:barChart>
      <c:catAx>
        <c:axId val="764070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07480"/>
        <c:crosses val="autoZero"/>
        <c:auto val="1"/>
        <c:lblAlgn val="ctr"/>
        <c:lblOffset val="100"/>
        <c:noMultiLvlLbl val="0"/>
      </c:catAx>
      <c:valAx>
        <c:axId val="30807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4070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0F94-C233-4A95-879E-05DB87E6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35DD-8593-4BC2-8E86-0EEC3D53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E5D-094F-46B7-BB04-FB23486FD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4AA-9019-45B6-BC8F-13CB04B1E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682C-760C-430F-AB86-5D005479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15D6-7EFB-4143-9E6C-3566F8FEF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D744-2FD7-4D4A-88C4-FC026136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26C-CEC4-4959-95EC-0806554B0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6EBC-E4DC-4601-9A12-4983C772C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7A0B-A4BD-4F0B-AFB0-AD1E4CB4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E321-9FF9-4641-89CE-5BF24DF1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5AB-B342-4236-83E7-8C438DDA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78B4B-70F6-4125-949D-5B8E4C17C5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