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81407"/>
        <c:axId val="27001601"/>
      </c:barChart>
      <c:catAx>
        <c:axId val="21381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01601"/>
        <c:crosses val="autoZero"/>
        <c:auto val="1"/>
        <c:lblAlgn val="ctr"/>
        <c:lblOffset val="100"/>
        <c:noMultiLvlLbl val="0"/>
      </c:catAx>
      <c:valAx>
        <c:axId val="27001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81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8B0-4130-42A0-BF60-96522BCA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40D-3FDB-4FB3-8053-3377704D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A05-3886-43ED-9B05-3D5E56F8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E19-F13E-4E16-9D94-518305FE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C41-34C0-46AE-98E5-8BB7EA72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6B1-8F19-4B51-9786-4EA010B3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55C-5444-4D85-A605-2FB28F97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D43-EE7B-4CA9-84F3-1AC82CB5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AE8-85C4-42C4-977A-4BADB8C1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E9E-6825-4197-9271-B1B0F465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107-9A62-4C95-B88E-A0A29DA7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655-5D38-4CFB-9950-856926BE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CA671-CBDB-4AF4-9C87-52356E523A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