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60668"/>
        <c:axId val="7049900"/>
      </c:barChart>
      <c:catAx>
        <c:axId val="39560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9900"/>
        <c:crosses val="autoZero"/>
        <c:auto val="1"/>
        <c:lblAlgn val="ctr"/>
        <c:lblOffset val="100"/>
        <c:noMultiLvlLbl val="0"/>
      </c:catAx>
      <c:valAx>
        <c:axId val="7049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0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1D6-8377-48E8-B05D-F7AC82C9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C0E-B359-4C59-9E0A-6A104412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D6A-AE29-475B-846B-81EF9BCB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1E1-88B7-45EE-A413-8DF97E10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197-765A-45BF-BF4F-9830D4F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D20-F842-41F6-B041-9452DE64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088-9EB5-45CA-84E3-7424C2E9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29A-FE18-44C2-A66B-1ABB8AD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81F-BEFC-4211-AB50-B3CA5637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EB5-3C3F-4C72-9E89-1E7ABE3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4D2-7A75-467B-B011-59294A4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53F-DF17-4CC4-9695-6064C71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D467-640C-4953-AC9A-4C5714FD5F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