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026"/>
        <c:axId val="64074914"/>
      </c:barChart>
      <c:catAx>
        <c:axId val="782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74914"/>
        <c:crosses val="autoZero"/>
        <c:auto val="1"/>
        <c:lblAlgn val="ctr"/>
        <c:lblOffset val="100"/>
        <c:noMultiLvlLbl val="0"/>
      </c:catAx>
      <c:valAx>
        <c:axId val="64074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6CA-2310-4173-83C0-937BE421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E3A-0BC3-4DA9-9AF7-FD958C8E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B5E-062D-402A-9248-35127FCB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BF7-8C52-4697-AE13-8AD6338A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944-1A6A-48EE-A37A-6CFC22F7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B8C-8747-4745-95E7-948E2DAE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E0C-7E0A-44BC-9051-6052FC11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8B4-90F3-4D9F-AE0F-71D43482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85F-D044-4487-94F5-F6C11997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141-5AB8-4683-9585-C1909579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712-7D51-4342-B602-81628B87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D67-3845-429A-9F4C-D63C9916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07FDC-2940-4A9E-B323-9AC6CB8FE4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