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80887"/>
        <c:axId val="32489582"/>
      </c:barChart>
      <c:catAx>
        <c:axId val="68280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89582"/>
        <c:crosses val="autoZero"/>
        <c:auto val="1"/>
        <c:lblAlgn val="ctr"/>
        <c:lblOffset val="100"/>
        <c:noMultiLvlLbl val="0"/>
      </c:catAx>
      <c:valAx>
        <c:axId val="32489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80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E47-F69F-493F-A8C6-B452862E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BC7-77FB-4148-B252-9458C98D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53C-7C8E-42DE-98DB-ACCF1C6C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DB5-9AEA-4433-AFA3-F6524A44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B4D-A7F3-4046-8494-AEA528FA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1B47-6109-4335-8CFD-1DAAC01A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8610-F5BA-4621-A215-E4FF2E35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F8A-B335-45EF-AF37-97975EBB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982-CCDC-42CA-A896-4C1F2EB4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84B0-D8B5-4DF5-855F-C37940E5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BB5D-C9D6-49FE-96A8-333DC642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D46-8602-4029-AF52-8B26D0BE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6181F-AEF4-420A-88AF-4D9332F033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