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82058"/>
        <c:axId val="64941778"/>
      </c:barChart>
      <c:catAx>
        <c:axId val="3798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1778"/>
        <c:crosses val="autoZero"/>
        <c:auto val="1"/>
        <c:lblAlgn val="ctr"/>
        <c:lblOffset val="100"/>
        <c:noMultiLvlLbl val="0"/>
      </c:catAx>
      <c:valAx>
        <c:axId val="64941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4DF-D03B-468E-AF10-C72A1346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847-7247-4F88-B834-179FBB64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084-2420-40CB-BB1A-F24D4FD4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2DC-3C49-4835-BE9B-4DCC13B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FCA-32A2-48CF-A0EB-6FA01A3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A92-4CE8-47EA-94DF-34CEF39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CD0-19BF-4485-948E-C851A971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715-10E0-4CE4-A53E-5D336C51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A10-A33A-4CB7-8AFF-E20F0902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4F3-01EA-4A1E-A364-6D62627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ABB-9EAE-4369-AC62-6608E02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3A0-C93C-466D-9DC0-36E5070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66585-CF58-41B5-A230-6F957CE79D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