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10531"/>
        <c:axId val="37699937"/>
      </c:barChart>
      <c:catAx>
        <c:axId val="4161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99937"/>
        <c:crosses val="autoZero"/>
        <c:auto val="1"/>
        <c:lblAlgn val="ctr"/>
        <c:lblOffset val="100"/>
        <c:noMultiLvlLbl val="0"/>
      </c:catAx>
      <c:valAx>
        <c:axId val="37699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1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D43-0154-4FFC-A27D-D0767253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C0E-2C31-49D0-BB74-445D239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A88-F520-4F69-8BF0-CAE10B1D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72A-E0A6-42A8-BBFB-1F4A08E3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063-4EB6-4D76-B52B-0144C9DC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2A1-FE35-43FC-9519-F9C2BD4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452-65C8-46A0-9C60-6E128ABE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C95-1882-4368-9510-3A8E09F2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8DB-CD1E-4FF9-B639-512D48EA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629-6CD7-4F46-8D2D-C59F81E1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462-6E32-4D69-89B5-E65B082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316-381E-4645-BC76-23BAA6A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D82E8-209B-4788-AD4B-D4BAC941E7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