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92078"/>
        <c:axId val="83072412"/>
      </c:barChart>
      <c:catAx>
        <c:axId val="12192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2412"/>
        <c:crosses val="autoZero"/>
        <c:auto val="1"/>
        <c:lblAlgn val="ctr"/>
        <c:lblOffset val="100"/>
        <c:noMultiLvlLbl val="0"/>
      </c:catAx>
      <c:valAx>
        <c:axId val="8307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2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EF9-2FE2-4C9A-96EA-A4388EB7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91A-1B72-41ED-BA62-1FB7B94A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CDD-3739-4B41-B9BE-15A1E8AA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915-D4B1-4D6D-ABE7-49BF9A4D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0FD-8855-4EDA-9843-F9B0D82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71F-D89E-4F3B-B9D4-CB9FE16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666-61EF-45ED-B034-3C3E0CB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663-2E5A-421B-AA41-C61A3559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65B-0D9F-45BB-96AE-B9445EC7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A39-6FD5-48A6-AB1D-69BB847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C24-FBDB-484E-91DC-8FF29AF8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240-C4FA-4BDF-9BF2-4E2F251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1F01B-DE07-4A2F-B199-03A8B95D8E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