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44513"/>
        <c:axId val="26396617"/>
      </c:barChart>
      <c:catAx>
        <c:axId val="44044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96617"/>
        <c:crosses val="autoZero"/>
        <c:auto val="1"/>
        <c:lblAlgn val="ctr"/>
        <c:lblOffset val="100"/>
        <c:noMultiLvlLbl val="0"/>
      </c:catAx>
      <c:valAx>
        <c:axId val="26396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44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1B9-2F24-4DDE-83C9-3D65C512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B18-6D70-4CEE-AAE9-CD23F574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A46-DE7A-4BB5-8115-07CDD4F5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B6B-9C45-4793-8F49-303409E2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46E-C28D-45AA-8795-81CD7B62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7C2-5EA6-4D83-9379-FE8778F5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4A0-B028-43CE-A5AA-E148F7A9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2B0-73A0-4C80-8909-B26CB0E7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244-1A51-4124-8F1D-250170DA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AC5-9829-4D47-A003-B1CFA51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E38-3E1D-4DE6-9E9D-BB26EFDD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72E-F92E-4583-BACB-09BBC10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22532-F395-43A2-8EE1-CE538FAD4A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