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05146"/>
        <c:axId val="36068678"/>
      </c:barChart>
      <c:catAx>
        <c:axId val="5840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8678"/>
        <c:crosses val="autoZero"/>
        <c:auto val="1"/>
        <c:lblAlgn val="ctr"/>
        <c:lblOffset val="100"/>
        <c:noMultiLvlLbl val="0"/>
      </c:catAx>
      <c:valAx>
        <c:axId val="36068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1EB-9BB8-4921-861E-8CCEC40E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0DD-AFBD-464D-9551-3613237F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5AC-B3D6-4742-8539-7F9F2780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190-8EFD-4A6D-AD88-259ED4ED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41A-A79B-47B7-8C47-86292996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136-3854-4A45-87CD-ADBE9B7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FAB-E268-4B7B-BE70-ABDD93F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4AD-7D6F-4CD1-9F41-36209D34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78F-FC93-48F9-9404-5E68180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BEF-FEEE-4D9E-B8E1-6BA7F63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ADE-68CD-4CE7-9E84-95CEC632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077-66D9-482E-9907-F7FBD77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90C0A-134D-4ABA-AE40-E62AFDBBD4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