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841"/>
        <c:axId val="68411965"/>
      </c:barChart>
      <c:catAx>
        <c:axId val="163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11965"/>
        <c:crosses val="autoZero"/>
        <c:auto val="1"/>
        <c:lblAlgn val="ctr"/>
        <c:lblOffset val="100"/>
        <c:noMultiLvlLbl val="0"/>
      </c:catAx>
      <c:valAx>
        <c:axId val="68411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D3C-D348-4454-AD73-8B18EA2E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7C9-C5F9-43D2-B916-419F9FC8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0BE-D815-4B86-912E-91503838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D90-75C3-45B1-A3E8-773D028D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770-36BF-400B-95BB-11E9B169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EFA-1D64-49C4-BCD2-E1661ECC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116-3152-49ED-A2F8-B406D83B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8F4-F0E5-4BF7-B396-74A7F05C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2B7-9C26-452D-A872-F233D959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3CF-2A0C-4305-85C9-1675E8FF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C0F-F25C-4FA9-900C-1E424EFD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476-2875-403A-B716-1B913425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4F3E2-37FC-4343-9FDE-A077B36348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