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41164"/>
        <c:axId val="11385936"/>
      </c:barChart>
      <c:catAx>
        <c:axId val="45141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85936"/>
        <c:crosses val="autoZero"/>
        <c:auto val="1"/>
        <c:lblAlgn val="ctr"/>
        <c:lblOffset val="100"/>
        <c:noMultiLvlLbl val="0"/>
      </c:catAx>
      <c:valAx>
        <c:axId val="11385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41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5E2-3E7A-4E8E-B9FA-56D4CF24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BCA-9A90-40C5-824A-CBF876BB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13E-012E-4A1E-B781-C78DF0E2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0AA-6817-4C9F-8831-DFCB4AE0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832-0B95-4846-83B2-52F109F1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19D-9664-410C-9FF6-EB9B3F68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A8E-7997-4701-ADB4-C954907C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E05-4935-469B-A94F-A176B23C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B12-FBF6-4519-858C-05D05F6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E7D-C511-411F-B203-8887B0C2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2D4-E600-42E7-A9FC-23E59E10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35C-23C7-4074-9345-8C0EB3D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34C52-BD1D-4092-B1ED-89A920B0C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