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08758"/>
        <c:axId val="45889498"/>
      </c:barChart>
      <c:catAx>
        <c:axId val="19408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9498"/>
        <c:crosses val="autoZero"/>
        <c:auto val="1"/>
        <c:lblAlgn val="ctr"/>
        <c:lblOffset val="100"/>
        <c:noMultiLvlLbl val="0"/>
      </c:catAx>
      <c:valAx>
        <c:axId val="45889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08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728-256E-48D7-9A96-7110D137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66E-510B-4630-9503-CE6634F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B61-F06D-458A-A098-8FF30C34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D0D-4730-4422-A2E9-64A8D7FD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DCC-32B7-4A42-AAE4-14DB18E7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DD3-2A79-4635-A14D-ABF40ED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0F4-3AD0-4201-8D51-3E6DCF58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FFB-E30B-4937-81A6-474A9F5B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7EE-879B-48EE-924F-605DE94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852-AED4-4CB7-A499-D72EE21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81A-927B-49CD-AFDD-388604E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855-B365-42A4-BE6C-8CB362E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983F-5587-4714-B66A-D3BDA4A75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