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435240"/>
        <c:axId val="78061376"/>
      </c:barChart>
      <c:catAx>
        <c:axId val="834352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61376"/>
        <c:crosses val="autoZero"/>
        <c:auto val="1"/>
        <c:lblAlgn val="ctr"/>
        <c:lblOffset val="100"/>
        <c:noMultiLvlLbl val="0"/>
      </c:catAx>
      <c:valAx>
        <c:axId val="780613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352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438C-90B8-4132-9685-2A756819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3DEF-20F9-42DD-BD0A-EFFC02BE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0F59-D9C9-4500-A7F3-23940956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175A-628C-4E98-AC08-6D1F0719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88BC-F271-49BB-8389-8791725E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10C1-7DF1-4FBE-AC0B-E6486795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004B-B38D-468B-AC8D-664A0214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B222-DEAE-462B-A036-06B109A4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85D7-0C9B-454D-A8ED-7E48799F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0C59-ACCA-4F8B-B753-E91630E9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1CCE-E651-48D3-9B8B-1D7D4294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1786-0EA1-43AA-B8E2-5F68A874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5B32D-6F85-41AC-9101-A17746C064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