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493108"/>
        <c:axId val="97532964"/>
      </c:barChart>
      <c:catAx>
        <c:axId val="204931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532964"/>
        <c:crosses val="autoZero"/>
        <c:auto val="1"/>
        <c:lblAlgn val="ctr"/>
        <c:lblOffset val="100"/>
        <c:noMultiLvlLbl val="0"/>
      </c:catAx>
      <c:valAx>
        <c:axId val="975329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4931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09A9-833A-468C-B8CB-A93F669C6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1BCD-F2C7-4CFB-9548-1F82CA125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12C4-AAD0-4818-AA92-9F42088F9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EDA5-6977-4B4A-A049-95F6624A8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8523-C4F7-4DDC-9AE9-5603E98A4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6CA8-2EEB-48F4-8DBE-4428325F6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FEAC-505C-465C-8BAC-E30DB5E3C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01DC-ECC7-472D-B9A7-F69FBFED9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B3D8-0DDE-440F-A61C-462D223ED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9D76-59D3-42CF-8279-963D55C4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2446-DA8B-446F-9CC2-857EF8E9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CF09-3D9D-44BE-842F-C669095D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C3F00D-0821-45F4-8F04-29596B01CA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