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4987"/>
        <c:axId val="23421151"/>
      </c:barChart>
      <c:catAx>
        <c:axId val="66734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21151"/>
        <c:crosses val="autoZero"/>
        <c:auto val="1"/>
        <c:lblAlgn val="ctr"/>
        <c:lblOffset val="100"/>
        <c:noMultiLvlLbl val="0"/>
      </c:catAx>
      <c:valAx>
        <c:axId val="23421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4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601-242C-48BF-A18C-8B02A3C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9B2-1D56-43D9-9CB2-60A945D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3FF-C678-49CD-8DD1-8217157C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246-C222-4D36-B186-71BBDB60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131-F370-4B19-923A-9D24E16D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C67-7440-4E7D-9F3E-80534D2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5F6-655F-469C-8354-AECBDA06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2AA-A2CB-4853-8FFC-F99B5F67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399-4AB8-4BC0-8169-F749AF9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A67-68E1-46D3-B323-6963F3A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8C7-B780-4064-BD4E-F6FE83E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39F-ADF6-4A92-BCB5-1B17A71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0A80C-8B2D-495C-A6AB-DE8F12C34A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