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655649"/>
        <c:axId val="74624879"/>
      </c:barChart>
      <c:catAx>
        <c:axId val="666556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24879"/>
        <c:crosses val="autoZero"/>
        <c:auto val="1"/>
        <c:lblAlgn val="ctr"/>
        <c:lblOffset val="100"/>
        <c:noMultiLvlLbl val="0"/>
      </c:catAx>
      <c:valAx>
        <c:axId val="746248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556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984-C8AD-4120-B065-6FA58EC0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9A16-80EC-4AEC-935E-7F463634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4B1D-4F97-41C3-83D7-4480B61D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AB4-5B27-4F84-9723-9AC6B9C4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4644-609A-4A00-9820-C669D03B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2335-65E4-4A0D-A6EC-C834B901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F992-52A2-41EF-89E4-BF2570ED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74B-E7C0-48CA-9690-F599E39E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503-F76F-4753-B65E-C644063F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0704-35F4-4ECE-A655-CA4EB14F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9BE9-1E4D-4C60-8F5D-7177FD65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9763-9D6F-4889-86D9-5D70F749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ECC7B-3CD3-4A12-AA07-C14251DF1C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