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13287"/>
        <c:axId val="72051043"/>
      </c:barChart>
      <c:catAx>
        <c:axId val="48413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51043"/>
        <c:crosses val="autoZero"/>
        <c:auto val="1"/>
        <c:lblAlgn val="ctr"/>
        <c:lblOffset val="100"/>
        <c:noMultiLvlLbl val="0"/>
      </c:catAx>
      <c:valAx>
        <c:axId val="72051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13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4F1-54B8-4AA5-9611-F657F7E0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BA9-A450-4EBB-820D-6DE0C379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77C-29C4-4136-BCE1-D7333F8C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AC4-4977-41FE-B9A4-4DB55483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26A-8FBD-45A6-A129-3D665A6B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D25-8EF1-40D0-97B3-FE3FCD59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CB6-3A19-4238-B6FC-8FF7B86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7C9-9F9D-4677-892B-32FEA946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0A9-A5E2-4A78-A58A-231FA119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6FF-AD23-4E0A-B00B-4FFC0C25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CC0-BCFA-4665-812D-30F5673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20A-FEF5-4431-8355-DD0E9E97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B9B00-0473-4C2A-9EED-607595E559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