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395926"/>
        <c:axId val="5296537"/>
      </c:barChart>
      <c:catAx>
        <c:axId val="57395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6537"/>
        <c:crosses val="autoZero"/>
        <c:auto val="1"/>
        <c:lblAlgn val="ctr"/>
        <c:lblOffset val="100"/>
        <c:noMultiLvlLbl val="0"/>
      </c:catAx>
      <c:valAx>
        <c:axId val="52965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395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45D-2CC1-40A9-84D7-98C4E8D8A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2E4D-F91D-44D9-88F4-19A1A917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E1AD-4B0A-4095-A452-6C5CF9E03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B4EC-5C4A-4776-BAE5-7F279B697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737-E63A-42F5-9E91-F20FB7E1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07B-0AFE-4373-8323-54A13D083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5FB8-894C-43DD-A22B-E52D5C68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7AF1-F0B7-4149-BB3F-7D023A69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3CF-63AE-45B3-880C-E9DD3F29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D24-317D-4FB0-A57D-AE500241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457B-B179-4A3C-9FDE-59D93DE9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7BD4-AAE8-4EC7-8B07-487177BF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488FD-CBF5-4222-8BB9-6377B0EBC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