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80369"/>
        <c:axId val="2857040"/>
      </c:barChart>
      <c:catAx>
        <c:axId val="93680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7040"/>
        <c:crosses val="autoZero"/>
        <c:auto val="1"/>
        <c:lblAlgn val="ctr"/>
        <c:lblOffset val="100"/>
        <c:noMultiLvlLbl val="0"/>
      </c:catAx>
      <c:valAx>
        <c:axId val="2857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0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D45-BB88-4206-9EE1-5262496A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C33-F014-4ED4-9898-0ED5BD48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E0F-9B31-4A9E-B5B9-646DD03B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B33-3C18-4B0A-A62A-5FCB3F89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0BB-F5A7-4E94-ACDE-8CC6E2BF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4BE-8627-4EDB-924B-9063C7FB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E23-1043-4E68-BF19-DE8A296C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C8A-A3B4-4586-8D15-3AA67139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C8E-78C5-4145-A81D-94308717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843-A09F-4271-8319-FBF29DB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8E7-EDD1-425C-8196-3CA1AD55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0D6-E823-49F9-B03E-0735C86A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97A3D-61B3-4B8F-8B7E-520B018D0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