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48839"/>
        <c:axId val="7747474"/>
      </c:barChart>
      <c:catAx>
        <c:axId val="5764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7474"/>
        <c:crosses val="autoZero"/>
        <c:auto val="1"/>
        <c:lblAlgn val="ctr"/>
        <c:lblOffset val="100"/>
        <c:noMultiLvlLbl val="0"/>
      </c:catAx>
      <c:valAx>
        <c:axId val="7747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4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A6F-0196-42F6-BA6F-53F7BE26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D77-9DF5-4414-B869-2E63B7F6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BC3-D06F-43EC-95BD-FBB02C78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AF0-43D5-4FB2-84BF-C6B9CF65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EB1-B490-41CD-82A2-C6B26FCF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3B0-1B68-49A6-B80E-D461F8F7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62D-9137-4A8D-95E9-0F6C794F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322-EC4F-4D3B-B02F-83AB55C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07F-9605-49E2-BD56-F2E8F0D4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2FD-A78E-4A17-8C82-45F6491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DE7-15B4-4653-933A-4028681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D0B-8024-44BD-9FCE-6964458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A1F36-D4F6-434D-B2A4-4433EB2B1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