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79935"/>
        <c:axId val="45322100"/>
      </c:barChart>
      <c:catAx>
        <c:axId val="14979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22100"/>
        <c:crosses val="autoZero"/>
        <c:auto val="1"/>
        <c:lblAlgn val="ctr"/>
        <c:lblOffset val="100"/>
        <c:noMultiLvlLbl val="0"/>
      </c:catAx>
      <c:valAx>
        <c:axId val="45322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79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A2A-391E-4F56-844B-8AA44CB4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416-E49D-40EB-A57D-2F944489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E7D-2F79-4CBD-922A-CD372F9F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7A0-2926-489A-B06F-EB314DD6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3F4-94B3-49E9-8306-662BF606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27B-ABBD-4C83-8552-08B022D2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AD7-5CF3-49E8-AFD0-1183B513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CA0-B65F-4F86-841B-B7906843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795-941F-48CE-A691-A5223FC7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EE4-6E28-406F-966F-049B20F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008-D87E-46D6-95B4-D76C697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7A3-5BB5-4029-B041-849317B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1D2B5-2E12-4479-B09E-B2D2DD1A03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