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15443"/>
        <c:axId val="88568061"/>
      </c:barChart>
      <c:catAx>
        <c:axId val="44415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68061"/>
        <c:crosses val="autoZero"/>
        <c:auto val="1"/>
        <c:lblAlgn val="ctr"/>
        <c:lblOffset val="100"/>
        <c:noMultiLvlLbl val="0"/>
      </c:catAx>
      <c:valAx>
        <c:axId val="88568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15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CA4-8170-45DB-B08D-EE29D67E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A59-2C0C-4C62-9F5B-E77D3799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F89-D79F-43E4-BE45-1D026396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608-DFA6-478B-A3ED-4855F8E5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D8D-70EC-4CCC-8B4B-C6751B87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9F7-2A32-4E58-8603-BB4C56E2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9A8-5C5E-4A33-BF16-63C7CE6E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584-E986-4E86-8810-0A619285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150-1288-4151-BFE0-8D5FED82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CED-5189-46F3-A965-F9F7E728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D71-3CFC-4C6C-9017-49434E18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D70-0B78-4051-B125-3DE9D615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5D365-CAB4-4D1C-8A79-D749B0F141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