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724310"/>
        <c:axId val="18679059"/>
      </c:barChart>
      <c:catAx>
        <c:axId val="517243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679059"/>
        <c:crosses val="autoZero"/>
        <c:auto val="1"/>
        <c:lblAlgn val="ctr"/>
        <c:lblOffset val="100"/>
        <c:noMultiLvlLbl val="0"/>
      </c:catAx>
      <c:valAx>
        <c:axId val="186790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7243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6A55-AA5D-478F-A7BB-3F4725C8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F7A1-3A4E-4483-8C4D-F195E355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F938-CFBC-452C-ACE6-6D7D1688E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F01C-A7BB-4F53-8942-ACF50556D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4573-064C-49C0-A8EA-8C3AE237A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B36D-D3EC-40D4-8DBB-A67C3B76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50C4-373D-4746-87F7-5350AE47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57B9-825E-4727-9885-9CEDB4CF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B91C-363C-4365-A6FE-574D191A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95CF-AF22-476A-B5E5-FE580A115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617D-E815-4F15-96C1-4F6372A0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43B8-4467-4E8D-B151-465FBF29E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B5D9F-5239-4765-A6A7-07DB822685F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