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195278"/>
        <c:axId val="95538059"/>
      </c:barChart>
      <c:catAx>
        <c:axId val="791952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38059"/>
        <c:crosses val="autoZero"/>
        <c:auto val="1"/>
        <c:lblAlgn val="ctr"/>
        <c:lblOffset val="100"/>
        <c:noMultiLvlLbl val="0"/>
      </c:catAx>
      <c:valAx>
        <c:axId val="955380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952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3130-A615-4AF8-8C24-84FE5716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ABA6-0CF9-41C7-86F3-EBA5F3EA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424E-4918-4CC6-A1AE-4BC7BA77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CF80-C519-4CC9-87E7-DA914F96E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524A-6960-46B6-80E5-B015887F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B585-DBD9-42EF-A560-600CE910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7133-2604-4397-A12B-539918CE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9F8B-8686-465C-BB20-02F50A34B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D3E9-FB71-4FAC-A765-794DB329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407-6233-4A87-9A75-DAEF0F88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E9D1-552A-4E73-B7F3-AEDB51C6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202D-1CAA-4267-8804-6032334F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D275D-F162-4E97-84C1-1657C314FA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