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24497"/>
        <c:axId val="66469194"/>
      </c:barChart>
      <c:catAx>
        <c:axId val="90124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69194"/>
        <c:crosses val="autoZero"/>
        <c:auto val="1"/>
        <c:lblAlgn val="ctr"/>
        <c:lblOffset val="100"/>
        <c:noMultiLvlLbl val="0"/>
      </c:catAx>
      <c:valAx>
        <c:axId val="66469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24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2C6-C54F-4805-BE64-EE4312B4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CD7-DC50-4311-9804-151A20D1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072-170F-44CC-9068-92402430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C7F-192C-4510-8FC1-D46F27F0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894-C4AE-43CE-8819-5A40CD8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A27-E7B0-4E9D-B708-628367B8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F5E-F448-4D7C-AE79-E05C67C0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54F-5E7D-4185-AD5A-8EA21A75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53F-0F53-49DA-BDED-F84D3D1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685-4564-4E74-9DD3-8A8EF2F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E63F-431D-4618-9B4B-3C22BAE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1BA0-B9D4-47AC-80D5-D8F9F06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7EB04-26D2-4858-9112-00CCFC39A3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