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22692"/>
        <c:axId val="21183762"/>
      </c:barChart>
      <c:catAx>
        <c:axId val="18822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83762"/>
        <c:crosses val="autoZero"/>
        <c:auto val="1"/>
        <c:lblAlgn val="ctr"/>
        <c:lblOffset val="100"/>
        <c:noMultiLvlLbl val="0"/>
      </c:catAx>
      <c:valAx>
        <c:axId val="21183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22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753-F21A-4723-BB7A-17F1A464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55F-FD47-48B8-9B2F-89C4FC59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527-A23A-4423-B225-6CB6D199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84D-894E-496A-9E94-74D4B999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EE65-2EA6-468B-8FC1-EF338E7D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8F9-FF1B-4A9B-9664-1403BCF6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5D8-1B52-4DFB-8647-E806869F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D596-D196-4579-8C67-B29EE307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765-637E-430E-9316-B4BEC017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25B-BA08-4FFB-AC09-4CED7080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F6C-E213-4A18-9D35-C020EDF7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180-0D0A-4941-900B-59698008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C205D-DDD9-432F-A980-9B67F54FFC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