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32495"/>
        <c:axId val="40789795"/>
      </c:barChart>
      <c:catAx>
        <c:axId val="83032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9795"/>
        <c:crosses val="autoZero"/>
        <c:auto val="1"/>
        <c:lblAlgn val="ctr"/>
        <c:lblOffset val="100"/>
        <c:noMultiLvlLbl val="0"/>
      </c:catAx>
      <c:valAx>
        <c:axId val="40789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32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444-CE5D-4315-B52C-8FC450CF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BCD7-CF7C-4147-B668-F629137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C1E-B2EE-4C92-A7FD-DCF60B1B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CCF-E42B-422C-86AF-720C5BB1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F0D-0AB2-469D-8012-A6DD67A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A7E-0FF4-43B2-B1D1-8BF6560B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210-6139-4324-891E-2CF35B8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700-BC9C-44EB-AB83-B6B40E06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404-1F70-4BD4-9A67-D5B5AA0D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6CE-E23C-45C2-BB63-3BFF632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6E7-257F-438B-81D7-A98E5F0F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38E-1383-470F-A43E-0D1CC65A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97020-F964-4B04-8ABF-9BF8D85757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