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16774"/>
        <c:axId val="30229822"/>
      </c:barChart>
      <c:catAx>
        <c:axId val="71216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29822"/>
        <c:crosses val="autoZero"/>
        <c:auto val="1"/>
        <c:lblAlgn val="ctr"/>
        <c:lblOffset val="100"/>
        <c:noMultiLvlLbl val="0"/>
      </c:catAx>
      <c:valAx>
        <c:axId val="30229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16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5939-C25C-4169-B8BB-D820175F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10C-E3AA-444A-AFA4-31F7818F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127-07B7-42F3-A3A7-33F5AA7D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7EF-F676-4433-AD4A-2B8392E8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CF0-70E9-40BB-96D2-F70FD906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C0D8-9AD5-4557-97C2-BD9FD5AE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C5F-A638-4E50-B278-CC473F90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5AB3-8444-4A15-96BF-2E81B3ED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6AF-F815-4889-A64F-30FA1410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7C6-3220-4486-BCFC-FD408015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B8F-D7F5-4975-B86B-36E475C8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295-086F-42AB-A1EA-733FB3C1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BC044-B4A9-49BF-BDA2-A0990A36DC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