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385804"/>
        <c:axId val="75879446"/>
      </c:barChart>
      <c:catAx>
        <c:axId val="903858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879446"/>
        <c:crosses val="autoZero"/>
        <c:auto val="1"/>
        <c:lblAlgn val="ctr"/>
        <c:lblOffset val="100"/>
        <c:noMultiLvlLbl val="0"/>
      </c:catAx>
      <c:valAx>
        <c:axId val="758794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858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3CED-83A3-4FC3-AF63-98E388CA2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7414-5E44-4949-9F45-75F1071F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349B-7359-4E11-B7D6-A8D1AC04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2352-2386-4D8F-890A-FCE5B80F9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00A7-B992-4BAB-A0BF-08397BAC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14C3-7064-42FD-A51E-4C461840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D83D-CCE1-40B3-979B-AFF13C2A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154C-D6AE-4AA7-9441-66D3042D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638E-58B7-4DEA-8B58-BFE3B734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CF1A-9D8F-4F21-8DA9-6817D0D3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3964-2D94-42E7-AB33-E1640D3D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3580-CDCE-4B81-A2D6-96ACC047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413571-2519-4CC1-869A-BB83C22DF3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