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72000"/>
        <c:axId val="20128939"/>
      </c:barChart>
      <c:catAx>
        <c:axId val="73272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28939"/>
        <c:crosses val="autoZero"/>
        <c:auto val="1"/>
        <c:lblAlgn val="ctr"/>
        <c:lblOffset val="100"/>
        <c:noMultiLvlLbl val="0"/>
      </c:catAx>
      <c:valAx>
        <c:axId val="20128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72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67B-66FE-477F-8F9D-5F4FCFB3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5A8-199C-421D-9C44-21E14A0A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E0F-23C7-4B32-88D8-A867F0F5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ABB-2957-4BC2-ABAC-3C218D18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4B7-3620-4608-8402-F4FD3E8D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FAB-B612-4837-A780-40E5AB71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FC0-8C3E-4F52-BDCC-BABA85BE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4C3-3AB8-4C2B-8D3C-017E9E8E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262-2565-4C33-A586-D9434FC8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146-567C-4CD0-8B34-DB4228C6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738-1CDD-4B77-B681-BC6EE27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B9D-8E01-40C5-B950-1FB89FEF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8D933-7AB8-43A7-8741-CCF9B38B95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