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19024"/>
        <c:axId val="75259314"/>
      </c:barChart>
      <c:catAx>
        <c:axId val="59819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9314"/>
        <c:crosses val="autoZero"/>
        <c:auto val="1"/>
        <c:lblAlgn val="ctr"/>
        <c:lblOffset val="100"/>
        <c:noMultiLvlLbl val="0"/>
      </c:catAx>
      <c:valAx>
        <c:axId val="75259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19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5AE-FD63-4254-9EA2-FE78C186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007-2AC2-4E1B-A593-65A0897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0B5-8301-449B-AEA2-BDC18E43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273-B6AE-4DC6-A251-B1FB4E3D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6A3-99D5-43F0-AF31-23A6034E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74B-78E4-4F57-BF16-C8B4FDD9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479-3EFA-4FB5-937B-575679F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A4A-CCB7-4851-8F43-6B660F94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D26-26EA-44F4-9D64-4D23E7A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7CF-2E0E-4ADF-BE5B-40FCDA8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D5C-CB1F-4FC3-BA20-72CD8282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6BE-9F82-4307-B736-1E682EB0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7EBC9-63BC-459D-B8FB-C8AAD6B33D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