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35039"/>
        <c:axId val="64895344"/>
      </c:barChart>
      <c:catAx>
        <c:axId val="44235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95344"/>
        <c:crosses val="autoZero"/>
        <c:auto val="1"/>
        <c:lblAlgn val="ctr"/>
        <c:lblOffset val="100"/>
        <c:noMultiLvlLbl val="0"/>
      </c:catAx>
      <c:valAx>
        <c:axId val="64895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35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1AF-189E-47FD-89B4-2C1C30EB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58D-1223-4731-B3A0-6CBB268D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4F1-77B0-448C-A954-0FA4423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EB1-BAFD-44C0-91EC-CBF8C4A2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A0B-2C6A-40C4-AAFB-45A7B02C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ECF-CC3D-4611-A806-75514F09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3BF-D4CA-47E5-BC72-A4A09CF5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A8C-2546-4C9D-9401-7FAD2EDD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0F5-E533-481C-8843-F95A1A5F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A08-65AD-4272-9BC0-7CEFFC9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CE0-EE6D-4CD6-AB9B-9B24E31F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A82-3B93-4818-8508-954ABDF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D606E-6FC3-4009-BAF4-C72FCB5E9D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